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289-72BB-428D-BCF7-21AFE637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8D4-BA7A-4264-892E-0A5BCAEB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A63-B957-4F81-9E84-ED6F2535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6BC-519C-45EA-AC1A-6FD2888E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F2822-FCDB-4C46-902A-C376D753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FA219-CB9F-4D05-97D0-E089528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C1FAE-4A0A-4081-B645-86231755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4BDB3-BC5C-450B-AD1D-75F90066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5E5A8-F4B0-42D8-99B9-D5ABF8BE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8F99-926D-4CBA-A89F-DC00C65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E5F3-3632-40B9-A7C7-326B15B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579-7213-441E-AFBA-BB490B7A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2D734-9788-4681-98F9-78BD01E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7ABC3-5F29-49D5-A075-CE2CD78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DEA0D-A92F-4866-8CA9-B4972EB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C313C-EC5A-4AAC-9642-477637F0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C9F8B-0B0F-4EEC-A3AB-7595AA80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12E-55CF-4DAA-BCD4-0575BEBE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4FA-FFE3-4C01-A14A-E61D270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171-510C-443A-A369-0BD8025E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629-566C-4493-8AB3-AB86CF75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DDE-82D4-4666-A347-2819AF5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481-92B3-4A0E-A734-08370DA3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1D8-59A1-47B5-AFCD-5B757CB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198-AE5B-4D29-AA16-07FB1721E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CF0-5C0E-4B6E-BB74-A63900010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orema lui Thale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ZUL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1844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upa 1 – albastr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a a VII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Şcoala cu clasele I-VIII Sî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adi Patri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z An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gy Lasz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asi Atti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5580000" y="2421000"/>
            <a:ext cx="30974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24360" y="404640"/>
            <a:ext cx="100836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732720" y="404280"/>
            <a:ext cx="1944720" cy="20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916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452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50880" y="2349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73840" y="22050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580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46160" y="15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5440" y="106200"/>
            <a:ext cx="61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Într-un triunghi oarecare  ABC se ia punctul 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  <a:ea typeface="Tahoma"/>
              </a:rPr>
              <a:t>înafara triunghiului AB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4520" y="155736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nfor Theoremei lui Thal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4240" y="21351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708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1760" y="2637000"/>
            <a:ext cx="8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9400" y="234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5240" y="213372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708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1880" y="26370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1360" y="2349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6320" y="38606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581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96600" y="465300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904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0600" y="3860640"/>
            <a:ext cx="9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60880" y="47973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9:57:08Z</dcterms:created>
  <dc:creator>xxx</dc:creator>
  <dc:description/>
  <dc:language>en-US</dc:language>
  <cp:lastModifiedBy>xxx</cp:lastModifiedBy>
  <dcterms:modified xsi:type="dcterms:W3CDTF">2011-02-24T22:03:47Z</dcterms:modified>
  <cp:revision>5</cp:revision>
  <dc:subject/>
  <dc:title>Slide 1</dc:title>
</cp:coreProperties>
</file>